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EA6-155D-40E0-8D6B-EF1D7C0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FBC-0370-411A-997F-EEECBCA3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59E-8D2B-4861-A1F9-5CCF34DE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1D6-10BD-4BE4-9596-617F4E6E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3AE-417D-404B-9444-3E4C5F5A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A41-8006-49BA-B701-C31F2EDB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781-D907-4AAA-B57A-1B8FC039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A14-096A-4F93-B77F-0A806A3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6CB-D75E-4A4F-B7DA-FE678D39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BEA-2C0D-44FD-8DC4-0C13DA79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353-E5A4-4546-8AF4-80187C0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FA8-460E-4122-A5B8-E62BAEB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366-294D-4011-8B7E-BAB7D62E8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9:12:52Z</dcterms:created>
  <dc:creator>jweiss</dc:creator>
  <dc:description/>
  <dc:language>en-US</dc:language>
  <cp:lastModifiedBy>jweiss</cp:lastModifiedBy>
  <dcterms:modified xsi:type="dcterms:W3CDTF">2008-10-24T19:12:57Z</dcterms:modified>
  <cp:revision>1</cp:revision>
  <dc:subject/>
  <dc:title>blah</dc:title>
</cp:coreProperties>
</file>